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C7F-5398-4D11-BA54-6F79DCCA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AC8-CDC1-4272-834D-BA708E5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2AF-30B5-4ACB-8F78-D0454EC8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4FE-FD49-440E-8CBE-022BA916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336-0818-452F-86DC-20E30A85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D15-9DAF-4A3C-9FF8-E6B6C9DC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EC3-5586-44E0-8CB9-F58F9491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B87-CDE4-4FB7-BBD3-DD11AFA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5D2-A4F0-4A4E-9457-3D8037D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3C1-EEC0-4DF2-B8ED-7CA2D84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9FA-340C-45C2-A71F-D1DA39F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79B-377B-4118-8A5A-97CE98C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01AA-A6A6-4858-80AC-3AE9DDEE20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781200" y="2505240"/>
            <a:ext cx="83628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476280" y="18525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657440" y="304812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670040" y="351792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3"/>
          <a:stretch/>
        </p:blipFill>
        <p:spPr>
          <a:xfrm>
            <a:off x="1755720" y="38768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749600" y="34020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14400" y="28656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901800" y="220032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341280" y="26463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195560" y="4737240"/>
            <a:ext cx="80517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5320" y="3981600"/>
            <a:ext cx="8053560" cy="834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27160" y="3309840"/>
            <a:ext cx="8059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4:55Z</dcterms:created>
  <dc:creator/>
  <dc:description/>
  <dc:language>en-US</dc:language>
  <cp:lastModifiedBy/>
  <dcterms:modified xsi:type="dcterms:W3CDTF">2011-12-08T11:44:59Z</dcterms:modified>
  <cp:revision>1</cp:revision>
  <dc:subject/>
  <dc:title/>
</cp:coreProperties>
</file>